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D5F5-1BC1-4D1C-ADE2-2AC4D9B00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a Gray quote  p. 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.S. Lewis qu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8D4C-A03F-4A04-A6A2-31DA6B3C4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7967-7A0A-461B-B4B3-C927050DC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28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8E0E-5C08-4477-8823-1B314D718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5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39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5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39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6302-2762-4043-A720-AA998101D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C0DDD-4E5C-456A-9B6C-D3B1B80AE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816BF-1EB8-4E66-8766-2E6B5C14D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42248-BE91-42EA-8D98-303EDA08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53E59-3ECD-4907-9870-DA31866D7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D9C2C-0F02-42D0-89C2-2688DFE4D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9BC81-F0FB-4C42-840A-4E06C73CA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CF97-ECF8-4C78-A062-79A68A1A1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ED16-9098-4CAA-B414-3A355A763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328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356CF-72DF-4994-878A-ADD3C5DC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EBA82-5005-4DEB-83B7-A00B9158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3316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971B0-AC81-432E-9E6F-77FF5C36F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328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69C9A-080B-476B-9E20-536CF7CBA9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5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396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331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5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396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948B4-E7F1-4A03-A8FB-F9EC4400C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DD3F-6506-4138-8B2A-54E5E26C6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8C73-D16D-492A-BF74-1E733B454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7E9A-1FA4-485F-9CC6-FE652648F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E3DC-41F6-4025-80C0-AF47A934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A47CD-4FDF-4D8F-A6E6-F470CD223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284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4E0C-F68D-4199-A203-5B2856B96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284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EB62-6A92-4343-A749-EF199C70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16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8224-4BC6-4FB3-9B44-FD1A2E5FC03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29CF-4F28-4DFB-863D-EF04C4BE0C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6094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istic evolu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"/>
          <p:cNvSpPr/>
          <p:nvPr/>
        </p:nvSpPr>
        <p:spPr>
          <a:xfrm>
            <a:off x="260640" y="5873760"/>
            <a:ext cx="240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eve Schaff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race Cha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y: huma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4920" y="1219320"/>
            <a:ext cx="8610480" cy="31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s develop through natural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mbryo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baby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dul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tically coded development pr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ach human is also a creation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salm 139:13   “You knit me together in my mother’s womb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ame process, different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3600" y="6022800"/>
            <a:ext cx="900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atural” does not mea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autonomo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 It mean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gular, predictable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God’s will &amp; freedom of the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04920" y="1219320"/>
            <a:ext cx="8610480" cy="40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ndom” events (e.g. mutations, storms) are under God’s control to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tightly does God control even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 exercises complete control over all aspects of na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 allows nature freedom, and works through it anyw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umans are part of created nature. Does he allow us freedo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sible points of conflict with the B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1219320"/>
            <a:ext cx="85341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sis 1 and an old eart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there death before human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death part of God’s pla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sis 2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w do Adam and Eve fit into evolu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all: where does sin come fr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as the Flood historic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stic evolution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04920" y="1450800"/>
            <a:ext cx="8534160" cy="29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sis is an historically accurate account. It can be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harmonize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ev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sis 1-11 offers theological instruction, expressed symbolically.  Its teaching is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complementary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the findings of sc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960" y="4572000"/>
            <a:ext cx="206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 don’t know.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l TE interpre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4920" y="1219320"/>
            <a:ext cx="83055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(more or less) literal reading of Genesis allows for evo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the most common view. Held by those who value traditional approaches to scrip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lenn Morton (geolog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rry Grey (biochem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l TE interpre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4920" y="1219320"/>
            <a:ext cx="8305560" cy="30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sis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s real events but not necessarily chronolog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ilar to old earth creationis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species created by evolution from earlier spe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am and Ev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04920" y="1219320"/>
            <a:ext cx="83055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sis 2-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taphorical description of actual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 &amp; Eve were a pair of human ancest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ir physical bod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duced by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emble related spec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’s miraculous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ave them sou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piritual capacity to know hi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teral TE interpre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1219320"/>
            <a:ext cx="83055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icks close to “plain” meaning of Scri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 largely traditional the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.g. the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as some difficulty actually harmonizing science and Genes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were Adam and E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was their connection to other hominid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logical/symbolic TE interpre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12193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pro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hn Polkingho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orge Murph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obin Coll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sis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e my previous tal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ssage is theological, written in terms that its readers could understan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necessary connection to natural his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logical/symbolic TE interpre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1219320"/>
            <a:ext cx="83055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enesis 2-3 is similar – but more obviously symbo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alking sna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e of Lif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ee of the Knowledge of Good and Ev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man named “Mankin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rst woman named “Living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ymbolic reading avoids having to take mythic-sounding elements (eg Gen. 3:22) literal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t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1347840"/>
            <a:ext cx="8534160" cy="31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at is theistic evolution?  Why is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roaches to the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ological implic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1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n and the F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9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dam &amp; Eve and the F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04920" y="121932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scribes the spiritual state of every human (hence the name “Adam”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ryone chooses to turn away from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ll choose to try to be like go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are all in a state of exile from the presence of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logical/symbolic interpre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219320"/>
            <a:ext cx="8305560" cy="40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od agreement with sci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es not have to strain to handle awkward parts (a talking snake?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Fall and original sin have to be understood in new way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ension with New Testament, e.g. Romans 5:12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refore, just as sin entered the world through one ma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nd death through sin, and in this way death came to all men, because all sinned.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logical emphases of 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04920" y="1219320"/>
            <a:ext cx="830556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ortance of God’s continuing activity in cre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tinuity of humans with the rest of cre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ope for the restoration of all creation, not just the salvation of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ortance of incar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-historical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1219320"/>
            <a:ext cx="830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dam &amp; Eve are not a single pair, but represent all early huma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ir repeated choice to turn away from God is something we inher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iginal sin is not an inherited guilt, but an inherited tendency, transmitted by culture and by spiritual conne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semi-historical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04920" y="1219320"/>
            <a:ext cx="830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view makes sense of Romans 1:20-25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radual descent of humans into 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t a single act by Adam and E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logy of suffering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1219320"/>
            <a:ext cx="8305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ng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ffering and death result from human s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ld ear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 predates humans. It must be part of God’s cre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istic 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ath and suffering are part of God’s method of creation. Is this consistent with a good God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ology of suffering and de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1219320"/>
            <a:ext cx="830556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spiritual death is a result of sin. Physical death need not an evil. (OEC &amp; 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 gave creation freedom in how it develops – just as God gives humans the freedom to do evil. (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e these adequa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istic ev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11200" y="6151680"/>
            <a:ext cx="513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times called “evolutionary creation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112840"/>
            <a:ext cx="8534160" cy="33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ol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fe shares a common ancest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ife has changed through (mostly) natural process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 is the creator of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sually works through physical mea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19120" y="1219320"/>
            <a:ext cx="7862760" cy="398880"/>
          </a:xfrm>
          <a:prstGeom prst="rect">
            <a:avLst/>
          </a:prstGeom>
          <a:solidFill>
            <a:srgbClr val="cef2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cceptance of evolution by someone who believes in G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istic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371600"/>
            <a:ext cx="8381880" cy="31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s people of many religious belief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e will focus on Christians with a high view of scrip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spired by 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authoritative guide for Christian faith an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cludes varied views on theology and the B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y theistic ev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4920" y="1447920"/>
            <a:ext cx="8305560" cy="32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duce barriers to Christianity for scientifically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event spiritual trauma to young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th should reflect re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aith is believing what you know ain’t so”  (Mark Twai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 truth is God’s tru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3530520"/>
            <a:ext cx="5562720" cy="0"/>
          </a:xfrm>
          <a:prstGeom prst="line">
            <a:avLst/>
          </a:prstGeom>
          <a:ln w="22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side: criticism of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07800" y="1068480"/>
            <a:ext cx="807408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act of creationist criticism is negligi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me issues are real puzzles (eg animal body plan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puzzles seem to have scientific solu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6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st criticism seems to be inval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3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olution explains an enormous range of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3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re is no competing creationist the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cientists and 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4920" y="1143000"/>
            <a:ext cx="8305560" cy="47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ery common among scient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ancis Colli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irector, Human Genome Project (Evangelical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Kenneth Mi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iologist, Brown Univ. (Roman Cathol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hn Polkinghor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oretical physicist (Anglican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mon Conway Morri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aleontologist (Angli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Howard Van Ti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stronomer (?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380880" y="-7632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hat is theistic evolu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914400"/>
            <a:ext cx="8001000" cy="0"/>
          </a:xfrm>
          <a:prstGeom prst="line">
            <a:avLst/>
          </a:prstGeom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04920" y="1143000"/>
            <a:ext cx="8305560" cy="32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ctrine of cre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God created the heavens and the earth, and all that is in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describe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how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od cre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</a:rPr>
              <a:t>God worked through evolution to create diversity of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cientific explanation doe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move God as 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304920" y="53352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hristian doctrine: God created nature and works through 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2895480"/>
            <a:ext cx="1447920" cy="768600"/>
          </a:xfrm>
          <a:prstGeom prst="rect">
            <a:avLst/>
          </a:prstGeom>
          <a:solidFill>
            <a:srgbClr val="a3b2c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G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2895480"/>
            <a:ext cx="1444680" cy="768600"/>
          </a:xfrm>
          <a:prstGeom prst="rect">
            <a:avLst/>
          </a:prstGeom>
          <a:solidFill>
            <a:srgbClr val="a3b2c1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hysical l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4976640"/>
            <a:ext cx="1447920" cy="76860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"/>
          <p:cNvCxnSpPr>
            <a:stCxn id="117" idx="2"/>
            <a:endCxn id="119" idx="0"/>
          </p:cNvCxnSpPr>
          <p:nvPr/>
        </p:nvCxnSpPr>
        <p:spPr>
          <a:xfrm>
            <a:off x="1409400" y="3664080"/>
            <a:ext cx="1143720" cy="131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0"/>
          </p:cNvCxnSpPr>
          <p:nvPr/>
        </p:nvCxnSpPr>
        <p:spPr>
          <a:xfrm flipH="1">
            <a:off x="2552400" y="3664080"/>
            <a:ext cx="1294560" cy="1313280"/>
          </a:xfrm>
          <a:prstGeom prst="straightConnector1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365200" y="3124080"/>
            <a:ext cx="43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638680" y="2209680"/>
            <a:ext cx="2819520" cy="4038840"/>
            <a:chOff x="5638680" y="2209680"/>
            <a:chExt cx="2819520" cy="4038840"/>
          </a:xfrm>
        </p:grpSpPr>
        <p:sp>
          <p:nvSpPr>
            <p:cNvPr id="124" name=""/>
            <p:cNvSpPr/>
            <p:nvPr/>
          </p:nvSpPr>
          <p:spPr>
            <a:xfrm>
              <a:off x="5638680" y="2209680"/>
              <a:ext cx="1447920" cy="768600"/>
            </a:xfrm>
            <a:prstGeom prst="rect">
              <a:avLst/>
            </a:prstGeom>
            <a:solidFill>
              <a:srgbClr val="a3b2c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Go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13520" y="3809880"/>
              <a:ext cx="1444680" cy="768600"/>
            </a:xfrm>
            <a:prstGeom prst="rect">
              <a:avLst/>
            </a:prstGeom>
            <a:solidFill>
              <a:srgbClr val="a3b2c1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hysical law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38680" y="5479920"/>
              <a:ext cx="1447920" cy="768600"/>
            </a:xfrm>
            <a:prstGeom prst="rect">
              <a:avLst/>
            </a:prstGeom>
            <a:solidFill>
              <a:srgbClr val="dddddd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ev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4" idx="2"/>
              <a:endCxn id="125" idx="0"/>
            </p:cNvCxnSpPr>
            <p:nvPr/>
          </p:nvCxnSpPr>
          <p:spPr>
            <a:xfrm>
              <a:off x="6362280" y="2978280"/>
              <a:ext cx="1374120" cy="832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25" idx="2"/>
              <a:endCxn id="126" idx="0"/>
            </p:cNvCxnSpPr>
            <p:nvPr/>
          </p:nvCxnSpPr>
          <p:spPr>
            <a:xfrm flipH="1">
              <a:off x="6361920" y="4578480"/>
              <a:ext cx="1374120" cy="9021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cxnSp>
        <p:nvCxnSpPr>
          <p:cNvPr id="129" name=""/>
          <p:cNvCxnSpPr>
            <a:stCxn id="124" idx="2"/>
            <a:endCxn id="126" idx="0"/>
          </p:cNvCxnSpPr>
          <p:nvPr/>
        </p:nvCxnSpPr>
        <p:spPr>
          <a:xfrm>
            <a:off x="6362280" y="2977920"/>
            <a:ext cx="1080" cy="250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8T15:11:06Z</dcterms:created>
  <dc:creator>Stephen Schaffner</dc:creator>
  <dc:description/>
  <dc:language>en-US</dc:language>
  <cp:lastModifiedBy>Stephen Schaffner</cp:lastModifiedBy>
  <dcterms:modified xsi:type="dcterms:W3CDTF">2008-05-07T23:33:21Z</dcterms:modified>
  <cp:revision>118</cp:revision>
  <dc:subject/>
  <dc:title>What science has to say about origins</dc:title>
</cp:coreProperties>
</file>